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7D7-38F7-45C1-88E6-BCCAC57E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7D7F-09E1-4F64-8612-0157C6C9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3EF0-72FE-4F63-A6B4-84195FE8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5F23-CA05-40E7-8035-8E966305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681-C4C5-4D8F-8469-AC28663D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A7BD-2F4D-49DE-87E0-6B1F2F8B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E22A-FD57-4268-8407-9257CB9C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407A-544D-443E-B021-C33D87FB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2A50-6B02-4576-BB4D-E290C8E1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6B04-6C36-4E85-9661-D437180D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0526-8976-403C-AD66-0BA92C81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2460-C9C5-49B0-9970-190D0010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353E-F85A-4B77-8D90-B1F029163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che de relevé de déc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5105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60948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6858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éun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articipan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xcusé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68580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écision à prend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Avantage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Inconvénient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553080"/>
            <a:ext cx="685800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bservations des participant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53452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écision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DERS</cp:lastModifiedBy>
  <dcterms:modified xsi:type="dcterms:W3CDTF">2002-03-09T10:23:18Z</dcterms:modified>
  <cp:revision>9</cp:revision>
  <dc:subject/>
  <dc:title>Présentation PowerPoint</dc:title>
</cp:coreProperties>
</file>